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AB54-51B7-4E69-999F-5EFF4FB2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446-9431-4B84-B481-D4EB71C1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B857-5D5B-4A9E-A4CB-9344085F4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7926-725C-4F1E-8636-8BE0B94CE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3F5B-2610-4309-B6DE-EC205123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1D45-0F01-4B4C-86FE-81C99257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F632-08FD-4FEA-B72F-B46B88F6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0969-8C58-4B5F-9A21-C4D4BF40D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349-C8BE-440D-8011-FC486E13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BE7E-3B2B-467F-A495-0922C10CE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8BE-3CF5-4F39-AE3C-EE5D647B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8AA7-D94B-42E7-A6C5-75704FBEC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8FCB-86E4-413E-88EB-51617CF7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1C5C-6F47-4866-B7DE-01AAC0D7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57B2-9029-4809-A28D-7813CB80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F5F-5F2B-4F85-B523-25E5B1184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ED8-7D67-4511-96A5-91D4CED2C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A90-AB12-43B0-BFD1-79ED05FC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19F-8111-4BCE-BE3E-C4B62FDC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211C-150A-4ED9-A9FD-4ACFEA3F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8134-06CE-41C7-85D5-D855F32B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5B01-64D7-418F-82E8-172A808D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C009-EBD8-4C09-BCFA-AE905747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6849-85C2-49FD-BC0D-492152F6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95F-21C7-4CAA-B70E-DF098E4B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75E-F166-45CA-BDED-7B45F22C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92B5-D7F5-45DB-9195-ECF57960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E4CE-C86F-4C01-B311-31F4D95F4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AFB9-303B-4AA9-9BAA-402EF30C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607-1B8F-49D9-AA51-47189338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3A3-ADB9-49F4-A487-715E4D9B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1D6-F951-456F-94C7-1EA8E878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8D21-C3A5-42E0-98E8-B915E7E61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E4A-909C-4A39-88D3-15D96266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7FA-073C-4DE5-88A3-5AC48DAF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D62-7948-4F1F-A208-AF473461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7F5-37A0-47B9-AE35-9D76A98E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5BA-37A1-4FB7-B29A-B7FA5325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07C-31D4-426D-BFE1-8C887946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5F7-C509-4BF6-A39A-14EB71EB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2EA-47C7-4164-8B70-3AD21459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4D1-D787-4B93-A36A-1B511769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DC2-17A8-4DC1-BDF4-EA2A3A1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01E-9FA3-4DD6-9417-7DEE11B8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009-5810-4AD7-91EA-4414EB8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3CDC-A8D3-4FE3-95B8-A49703033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eserts"/>
          <p:cNvPicPr/>
          <p:nvPr/>
        </p:nvPicPr>
        <p:blipFill>
          <a:blip r:embed="rId1"/>
          <a:stretch/>
        </p:blipFill>
        <p:spPr>
          <a:xfrm>
            <a:off x="533520" y="588960"/>
            <a:ext cx="7315200" cy="51404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eserts1"/>
          <p:cNvPicPr/>
          <p:nvPr/>
        </p:nvPicPr>
        <p:blipFill>
          <a:blip r:embed="rId1"/>
          <a:stretch/>
        </p:blipFill>
        <p:spPr>
          <a:xfrm>
            <a:off x="838080" y="488880"/>
            <a:ext cx="7696440" cy="5710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0" y="45720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d_30768n"/>
          <p:cNvPicPr/>
          <p:nvPr/>
        </p:nvPicPr>
        <p:blipFill>
          <a:blip r:embed="rId1"/>
          <a:stretch/>
        </p:blipFill>
        <p:spPr>
          <a:xfrm>
            <a:off x="609480" y="990720"/>
            <a:ext cx="3475080" cy="53496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desert-animal_187"/>
          <p:cNvPicPr/>
          <p:nvPr/>
        </p:nvPicPr>
        <p:blipFill>
          <a:blip r:embed="rId1"/>
          <a:stretch/>
        </p:blipFill>
        <p:spPr>
          <a:xfrm>
            <a:off x="609480" y="814320"/>
            <a:ext cx="8001000" cy="5180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oyote2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rattle"/>
          <p:cNvPicPr/>
          <p:nvPr/>
        </p:nvPicPr>
        <p:blipFill>
          <a:blip r:embed="rId1"/>
          <a:stretch/>
        </p:blipFill>
        <p:spPr>
          <a:xfrm>
            <a:off x="3354480" y="588960"/>
            <a:ext cx="24350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aracal2"/>
          <p:cNvPicPr/>
          <p:nvPr/>
        </p:nvPicPr>
        <p:blipFill>
          <a:blip r:embed="rId1"/>
          <a:stretch/>
        </p:blipFill>
        <p:spPr>
          <a:xfrm>
            <a:off x="2895480" y="304920"/>
            <a:ext cx="4430880" cy="6324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desert-animals"/>
          <p:cNvPicPr/>
          <p:nvPr/>
        </p:nvPicPr>
        <p:blipFill>
          <a:blip r:embed="rId1"/>
          <a:stretch/>
        </p:blipFill>
        <p:spPr>
          <a:xfrm>
            <a:off x="1353960" y="228600"/>
            <a:ext cx="5753160" cy="6222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kingsnake"/>
          <p:cNvPicPr/>
          <p:nvPr/>
        </p:nvPicPr>
        <p:blipFill>
          <a:blip r:embed="rId1"/>
          <a:stretch/>
        </p:blipFill>
        <p:spPr>
          <a:xfrm>
            <a:off x="1200240" y="725400"/>
            <a:ext cx="6743520" cy="5407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ant_07"/>
          <p:cNvPicPr/>
          <p:nvPr/>
        </p:nvPicPr>
        <p:blipFill>
          <a:blip r:embed="rId1"/>
          <a:stretch/>
        </p:blipFill>
        <p:spPr>
          <a:xfrm>
            <a:off x="990720" y="74304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100-0069_IMG"/>
          <p:cNvPicPr/>
          <p:nvPr/>
        </p:nvPicPr>
        <p:blipFill>
          <a:blip r:embed="rId1"/>
          <a:stretch/>
        </p:blipFill>
        <p:spPr>
          <a:xfrm>
            <a:off x="762120" y="1752480"/>
            <a:ext cx="7578720" cy="4821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Verdana"/>
              </a:rPr>
              <a:t>Sand Dunes. Sossusvlei. Namib-Naukluft National Park. Namibia</a:t>
            </a:r>
            <a:r>
              <a:rPr b="0" lang="en-US" sz="4400" spc="-1" strike="noStrike">
                <a:solidFill>
                  <a:srgbClr val="666666"/>
                </a:solidFill>
                <a:latin typeface="Verdan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2_high_1_84379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3735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ferocactus_wislizenii"/>
          <p:cNvPicPr/>
          <p:nvPr/>
        </p:nvPicPr>
        <p:blipFill>
          <a:blip r:embed="rId1"/>
          <a:stretch/>
        </p:blipFill>
        <p:spPr>
          <a:xfrm>
            <a:off x="1066680" y="98280"/>
            <a:ext cx="7239240" cy="6458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saguago2"/>
          <p:cNvPicPr/>
          <p:nvPr/>
        </p:nvPicPr>
        <p:blipFill>
          <a:blip r:embed="rId1"/>
          <a:stretch/>
        </p:blipFill>
        <p:spPr>
          <a:xfrm>
            <a:off x="2228760" y="38088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athedralRock"/>
          <p:cNvPicPr/>
          <p:nvPr/>
        </p:nvPicPr>
        <p:blipFill>
          <a:blip r:embed="rId1"/>
          <a:stretch/>
        </p:blipFill>
        <p:spPr>
          <a:xfrm>
            <a:off x="2209680" y="152280"/>
            <a:ext cx="4408560" cy="6629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tolLvsGMNPME03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saguaro"/>
          <p:cNvPicPr/>
          <p:nvPr/>
        </p:nvPicPr>
        <p:blipFill>
          <a:blip r:embed="rId1"/>
          <a:stretch/>
        </p:blipFill>
        <p:spPr>
          <a:xfrm>
            <a:off x="2593800" y="304920"/>
            <a:ext cx="400536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actflow"/>
          <p:cNvPicPr/>
          <p:nvPr/>
        </p:nvPicPr>
        <p:blipFill>
          <a:blip r:embed="rId1"/>
          <a:stretch/>
        </p:blipFill>
        <p:spPr>
          <a:xfrm>
            <a:off x="304920" y="73656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hilopsis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esert-plant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OCC_lupine1"/>
          <p:cNvPicPr/>
          <p:nvPr/>
        </p:nvPicPr>
        <p:blipFill>
          <a:blip r:embed="rId1"/>
          <a:stretch/>
        </p:blipFill>
        <p:spPr>
          <a:xfrm>
            <a:off x="2440080" y="588960"/>
            <a:ext cx="42638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paloverde"/>
          <p:cNvPicPr/>
          <p:nvPr/>
        </p:nvPicPr>
        <p:blipFill>
          <a:blip r:embed="rId1"/>
          <a:stretch/>
        </p:blipFill>
        <p:spPr>
          <a:xfrm>
            <a:off x="838080" y="63036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fornia 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Deserts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5241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eser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featherdusters"/>
          <p:cNvPicPr/>
          <p:nvPr/>
        </p:nvPicPr>
        <p:blipFill>
          <a:blip r:embed="rId1"/>
          <a:stretch/>
        </p:blipFill>
        <p:spPr>
          <a:xfrm>
            <a:off x="685800" y="41292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aguaronpdeserthabi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2" descr="desert"/>
          <p:cNvPicPr/>
          <p:nvPr/>
        </p:nvPicPr>
        <p:blipFill>
          <a:blip r:embed="rId1"/>
          <a:stretch/>
        </p:blipFill>
        <p:spPr>
          <a:xfrm>
            <a:off x="533520" y="557280"/>
            <a:ext cx="8001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493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446120" y="1063800"/>
            <a:ext cx="4364280" cy="6120"/>
            <a:chOff x="1446120" y="1063800"/>
            <a:chExt cx="4364280" cy="6120"/>
          </a:xfrm>
        </p:grpSpPr>
        <p:grpSp>
          <p:nvGrpSpPr>
            <p:cNvPr id="60" name="Group 18"/>
            <p:cNvGrpSpPr/>
            <p:nvPr/>
          </p:nvGrpSpPr>
          <p:grpSpPr>
            <a:xfrm>
              <a:off x="1449360" y="1066680"/>
              <a:ext cx="4357800" cy="360"/>
              <a:chOff x="1449360" y="1066680"/>
              <a:chExt cx="4357800" cy="360"/>
            </a:xfrm>
          </p:grpSpPr>
          <p:sp>
            <p:nvSpPr>
              <p:cNvPr id="61" name="Rectangle 17"/>
              <p:cNvSpPr/>
              <p:nvPr/>
            </p:nvSpPr>
            <p:spPr>
              <a:xfrm>
                <a:off x="1449360" y="1066680"/>
                <a:ext cx="4357800" cy="3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16"/>
              <p:cNvGrpSpPr/>
              <p:nvPr/>
            </p:nvGrpSpPr>
            <p:grpSpPr>
              <a:xfrm>
                <a:off x="1449360" y="1066680"/>
                <a:ext cx="4357800" cy="360"/>
                <a:chOff x="1449360" y="1066680"/>
                <a:chExt cx="4357800" cy="360"/>
              </a:xfrm>
            </p:grpSpPr>
            <p:sp>
              <p:nvSpPr>
                <p:cNvPr id="63" name="Rectangle 4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15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" name="Rectangle 19"/>
            <p:cNvSpPr/>
            <p:nvPr/>
          </p:nvSpPr>
          <p:spPr>
            <a:xfrm>
              <a:off x="1446120" y="1063800"/>
              <a:ext cx="4364280" cy="61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7" descr="desert view with spires Monument Valley"/>
          <p:cNvPicPr/>
          <p:nvPr/>
        </p:nvPicPr>
        <p:blipFill>
          <a:blip r:embed="rId1"/>
          <a:stretch/>
        </p:blipFill>
        <p:spPr>
          <a:xfrm>
            <a:off x="1617840" y="1112760"/>
            <a:ext cx="6080040" cy="4068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esert5"/>
          <p:cNvPicPr/>
          <p:nvPr/>
        </p:nvPicPr>
        <p:blipFill>
          <a:blip r:embed="rId1"/>
          <a:stretch/>
        </p:blipFill>
        <p:spPr>
          <a:xfrm>
            <a:off x="457200" y="1279440"/>
            <a:ext cx="8077320" cy="4740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geog2"/>
          <p:cNvPicPr/>
          <p:nvPr/>
        </p:nvPicPr>
        <p:blipFill>
          <a:blip r:embed="rId1"/>
          <a:stretch/>
        </p:blipFill>
        <p:spPr>
          <a:xfrm>
            <a:off x="2247840" y="533520"/>
            <a:ext cx="4849920" cy="5562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Deserts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desert1"/>
          <p:cNvPicPr/>
          <p:nvPr/>
        </p:nvPicPr>
        <p:blipFill>
          <a:blip r:embed="rId1"/>
          <a:stretch/>
        </p:blipFill>
        <p:spPr>
          <a:xfrm>
            <a:off x="1663560" y="588960"/>
            <a:ext cx="58183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26:24Z</dcterms:created>
  <dc:creator>Romona Hunt</dc:creator>
  <dc:description/>
  <dc:language>en-US</dc:language>
  <cp:lastModifiedBy>Laura McDow</cp:lastModifiedBy>
  <dcterms:modified xsi:type="dcterms:W3CDTF">2010-09-02T15:32:58Z</dcterms:modified>
  <cp:revision>4</cp:revision>
  <dc:subject/>
  <dc:title>PowerPoint Presentation</dc:title>
</cp:coreProperties>
</file>